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249-A387-4568-BB4E-EA765B5B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38B-B287-434E-B322-61C05419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90E-550F-42D8-93B3-7A1F40D2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72F-2277-446C-89C1-7766F628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9A3-5B9D-41CA-B39D-12D41FDE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188-3CBF-4F8A-9A96-F1054B70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05A-70FF-49EF-B3DD-EC405E40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7EE-7405-47E0-B17B-71527CCB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D30-B698-4CCD-8D10-24557662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451-9F4F-4905-B39F-D8101A4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6C0-EBF1-495C-A10C-4985D27E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4CA-3F77-4A2F-9E9C-462B0CA3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AD9A-7538-4135-9C33-0CFDF4905781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tmn\Desktop\borboleta_luminiscente.jpg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89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17375e"/>
                </a:solidFill>
                <a:latin typeface="JasmineUPC"/>
                <a:ea typeface="JasmineUPC"/>
              </a:rPr>
              <a:t>Da Ordem ao Ca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0" y="4267080"/>
            <a:ext cx="1905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Realizado p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Alexandru Mi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Gabriela Bels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Hugo Pe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Meggie 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Sara Mar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tmn\Desktop\graf.png"/>
          <p:cNvPicPr/>
          <p:nvPr/>
        </p:nvPicPr>
        <p:blipFill>
          <a:blip r:embed="rId1"/>
          <a:stretch/>
        </p:blipFill>
        <p:spPr>
          <a:xfrm>
            <a:off x="1438200" y="1504800"/>
            <a:ext cx="6267600" cy="475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Conclusã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"Caos é o nome de qualquer ordem que produz confusão nas nossas mentes.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George Santay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257040"/>
            <a:ext cx="14288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JasmineUPC"/>
                <a:ea typeface="JasmineUPC"/>
              </a:rPr>
              <a:t>Agradeciment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0" y="236232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FC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Paulo Morg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onitor Tiago Di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school.discovery.com/clipart/images/thanks.gif"/>
          <p:cNvPicPr/>
          <p:nvPr/>
        </p:nvPicPr>
        <p:blipFill>
          <a:blip r:embed="rId2"/>
          <a:stretch/>
        </p:blipFill>
        <p:spPr>
          <a:xfrm>
            <a:off x="5479920" y="4290840"/>
            <a:ext cx="367056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mn\Desktop\Ponto%20cego[1].jpg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3"/>
          <p:cNvSpPr/>
          <p:nvPr/>
        </p:nvSpPr>
        <p:spPr>
          <a:xfrm>
            <a:off x="1523880" y="24382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ff"/>
                </a:solidFill>
                <a:latin typeface="JasmineUPC"/>
                <a:ea typeface="JasmineUPC"/>
              </a:rPr>
              <a:t>Fim…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pt-PT" sz="7200" spc="-1" strike="noStrike">
                <a:solidFill>
                  <a:srgbClr val="000000"/>
                </a:solidFill>
                <a:latin typeface="JasmineUPC"/>
                <a:ea typeface="JasmineUPC"/>
              </a:rPr>
              <a:t>O que é Cao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 caos não tem estátua nem figura e não pode ser imaginado; é um estado que só pode ser conhecido pelas coisas que nele existem e ele contém o Universo infinito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Frances A. Y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volução da teoria do Ca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itologia Gre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Contributo da Física e de outras ciênc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Henri Poincar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Edward Loren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iucaa.ernet.in/~scipop/Literature/articles/Poincare_3.jpeg"/>
          <p:cNvPicPr/>
          <p:nvPr/>
        </p:nvPicPr>
        <p:blipFill>
          <a:blip r:embed="rId1"/>
          <a:stretch/>
        </p:blipFill>
        <p:spPr>
          <a:xfrm>
            <a:off x="5821200" y="2633760"/>
            <a:ext cx="2116440" cy="279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dward Lorenz … enlightened by a change in calculations."/>
          <p:cNvPicPr/>
          <p:nvPr/>
        </p:nvPicPr>
        <p:blipFill>
          <a:blip r:embed="rId2"/>
          <a:stretch/>
        </p:blipFill>
        <p:spPr>
          <a:xfrm>
            <a:off x="3828960" y="4011480"/>
            <a:ext cx="1859040" cy="277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t2.gstatic.com/images?q=tbn:BtJeLBkylp_WUM:http://estagiofqesag.no.sapo.pt/Links/Logotipo%2520FCUP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2"/>
          <p:cNvSpPr/>
          <p:nvPr/>
        </p:nvSpPr>
        <p:spPr>
          <a:xfrm>
            <a:off x="838080" y="182880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 ≠ 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btenção de resultados ig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Sistema Comple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Pseudo-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7"/>
          <p:cNvSpPr/>
          <p:nvPr/>
        </p:nvSpPr>
        <p:spPr>
          <a:xfrm>
            <a:off x="68580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JasmineUPC"/>
                <a:ea typeface="JasmineUPC"/>
              </a:rPr>
              <a:t>Pênd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58" name="Pendulo.avi" descr=""/>
          <p:cNvPicPr/>
          <p:nvPr/>
        </p:nvPicPr>
        <p:blipFill>
          <a:blip r:embed="rId3"/>
          <a:stretch/>
        </p:blipFill>
        <p:spPr>
          <a:xfrm>
            <a:off x="1168560" y="144792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:\Caos\fractal-borboleta.jpg"/>
          <p:cNvPicPr/>
          <p:nvPr/>
        </p:nvPicPr>
        <p:blipFill>
          <a:blip r:embed="rId1"/>
          <a:stretch/>
        </p:blipFill>
        <p:spPr>
          <a:xfrm>
            <a:off x="5575320" y="3886200"/>
            <a:ext cx="3111480" cy="2603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feito Borbole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O bater de asas de uma borboletas em Tóquio pode provocar um furacão em New York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O nosso trabalho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tmn\Desktop\jogo.png"/>
          <p:cNvPicPr/>
          <p:nvPr/>
        </p:nvPicPr>
        <p:blipFill>
          <a:blip r:embed="rId1"/>
          <a:stretch/>
        </p:blipFill>
        <p:spPr>
          <a:xfrm>
            <a:off x="2666880" y="1892160"/>
            <a:ext cx="3886200" cy="428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:\Caos\python00.jpg"/>
          <p:cNvPicPr/>
          <p:nvPr/>
        </p:nvPicPr>
        <p:blipFill>
          <a:blip r:embed="rId1"/>
          <a:stretch/>
        </p:blipFill>
        <p:spPr>
          <a:xfrm>
            <a:off x="4662360" y="228600"/>
            <a:ext cx="4481640" cy="647712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4"/>
          <p:cNvSpPr/>
          <p:nvPr/>
        </p:nvSpPr>
        <p:spPr>
          <a:xfrm>
            <a:off x="304920" y="85680"/>
            <a:ext cx="50292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c00000"/>
                </a:solidFill>
                <a:latin typeface="Arial"/>
                <a:ea typeface="Arial"/>
              </a:rPr>
              <a:t>#coding=ut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n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=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teta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a=teta*math.pi/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 arred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.ceil(x-0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queda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,a,i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y=x+math.tan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rego=arred(y+((i+1.)/2.)+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=y+((i+2.)/2.)-pr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-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s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y,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whil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i&lt;=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,a=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.append(n-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.append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prin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plot(h,j,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x=0.0 e teta=13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title(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Trajectória de uma bola a cair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axis([-n/2-1,n/2+1,-1,n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lege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sho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:\Caos\exemplo_4.png"/>
          <p:cNvPicPr/>
          <p:nvPr/>
        </p:nvPicPr>
        <p:blipFill>
          <a:blip r:embed="rId3"/>
          <a:stretch/>
        </p:blipFill>
        <p:spPr>
          <a:xfrm>
            <a:off x="0" y="198108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:\Caos\exemplo_5.png"/>
          <p:cNvPicPr/>
          <p:nvPr/>
        </p:nvPicPr>
        <p:blipFill>
          <a:blip r:embed="rId4"/>
          <a:stretch/>
        </p:blipFill>
        <p:spPr>
          <a:xfrm>
            <a:off x="4724280" y="20574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6:16:00Z</dcterms:created>
  <dc:creator>convidado010</dc:creator>
  <dc:description/>
  <dc:language>en-US</dc:language>
  <cp:lastModifiedBy>tmn</cp:lastModifiedBy>
  <dcterms:modified xsi:type="dcterms:W3CDTF">2009-09-05T07:59:57Z</dcterms:modified>
  <cp:revision>31</cp:revision>
  <dc:subject/>
  <dc:title>Da Ordem ao Caos</dc:title>
</cp:coreProperties>
</file>