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BB72-5F87-42DC-AE89-9BDE2498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5F6-F2A1-4BE8-AAAC-F4DD050E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ACA-ED6D-41AD-BD31-4A51DA5B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A8B1-68E3-4195-92AE-5EEAA91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D2A-CA94-4B3E-A817-9536161F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CD1-81B7-4492-BB79-6B45B95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FDB4-5000-4701-86A0-F310DCCB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146-84BA-468B-9423-79384C8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24A-808B-4B33-B279-64076571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9B2-7095-4875-8519-6403EBF4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9646-7756-4D41-B224-86B0F19E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0A31-2440-46D2-82B7-96A2953D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765-CE92-4EE3-8CED-76D6DCC25E4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pt/imgres?imgurl=http://estagiofqesag.no.sapo.pt/Links/Logotipo%2520FCUP.jpg&amp;imgrefurl=http://estagiofqesag.no.sapo.pt/Links/links.htm&amp;usg=__muU831nc1WKQM16VqbMPFWi-Au4=&amp;h=749&amp;w=1455&amp;sz=151&amp;hl=pt-PT&amp;start=9&amp;tbnid=BtJeLBkylp_WUM:&amp;tbnh=77&amp;tbnw=150&amp;prev=/images%3Fq%3DUniversidade%2Bdo%2Bporto%26gbv%3D2%26hl%3Dpt-PT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Users\tmn\Desktop\borboleta_luminiscente.jpg"/>
          <p:cNvPicPr/>
          <p:nvPr/>
        </p:nvPicPr>
        <p:blipFill>
          <a:blip r:embed="rId1"/>
          <a:stretch/>
        </p:blipFill>
        <p:spPr>
          <a:xfrm>
            <a:off x="533520" y="1600200"/>
            <a:ext cx="5715000" cy="489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7200" spc="-1" strike="noStrike">
                <a:solidFill>
                  <a:srgbClr val="17375e"/>
                </a:solidFill>
                <a:latin typeface="JasmineUPC"/>
                <a:ea typeface="JasmineUPC"/>
              </a:rPr>
              <a:t>Da Ordem ao Ca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0" y="4267080"/>
            <a:ext cx="1905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Realizado po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Alexandru Mi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Gabriela Belsl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Hugo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Meggie 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17375e"/>
                </a:solidFill>
                <a:latin typeface="JasmineUPC"/>
                <a:ea typeface="JasmineUPC"/>
              </a:rPr>
              <a:t>Sara Mar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tmn\Desktop\graf.png"/>
          <p:cNvPicPr/>
          <p:nvPr/>
        </p:nvPicPr>
        <p:blipFill>
          <a:blip r:embed="rId1"/>
          <a:stretch/>
        </p:blipFill>
        <p:spPr>
          <a:xfrm>
            <a:off x="1438200" y="1504800"/>
            <a:ext cx="6267600" cy="4756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Conclusã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"Caos é o nome de qualquer ordem que produz confusão nas nossas mentes."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JasmineUPC"/>
                <a:ea typeface="JasmineUPC"/>
              </a:rPr>
              <a:t>George Santay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257040"/>
            <a:ext cx="1428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6000" spc="-1" strike="noStrike">
                <a:solidFill>
                  <a:srgbClr val="000000"/>
                </a:solidFill>
                <a:latin typeface="JasmineUPC"/>
                <a:ea typeface="JasmineUPC"/>
              </a:rPr>
              <a:t>Agradeciment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236232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FCU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Paulo Morg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onitor Tiago Din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http://t2.gstatic.com/images?q=tbn:BtJeLBkylp_WUM:http://estagiofqesag.no.sapo.pt/Links/Logotipo%2520FCUP.jpg"/>
          <p:cNvPicPr/>
          <p:nvPr/>
        </p:nvPicPr>
        <p:blipFill>
          <a:blip r:embed="rId1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http://school.discovery.com/clipart/images/thanks.gif"/>
          <p:cNvPicPr/>
          <p:nvPr/>
        </p:nvPicPr>
        <p:blipFill>
          <a:blip r:embed="rId2"/>
          <a:stretch/>
        </p:blipFill>
        <p:spPr>
          <a:xfrm>
            <a:off x="5479920" y="4290840"/>
            <a:ext cx="3670560" cy="25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tmn\Desktop\Ponto%20cego[1].jpg"/>
          <p:cNvPicPr/>
          <p:nvPr/>
        </p:nvPicPr>
        <p:blipFill>
          <a:blip r:embed="rId1"/>
          <a:stretch/>
        </p:blipFill>
        <p:spPr>
          <a:xfrm>
            <a:off x="1727280" y="12952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aixaDeTexto 3"/>
          <p:cNvSpPr/>
          <p:nvPr/>
        </p:nvSpPr>
        <p:spPr>
          <a:xfrm>
            <a:off x="1523880" y="2438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600" spc="-1" strike="noStrike">
                <a:solidFill>
                  <a:srgbClr val="ffffff"/>
                </a:solidFill>
                <a:latin typeface="JasmineUPC"/>
                <a:ea typeface="JasmineUPC"/>
              </a:rPr>
              <a:t>Fim…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0" lang="pt-PT" sz="7200" spc="-1" strike="noStrike">
                <a:solidFill>
                  <a:srgbClr val="000000"/>
                </a:solidFill>
                <a:latin typeface="JasmineUPC"/>
                <a:ea typeface="JasmineUPC"/>
              </a:rPr>
              <a:t>O que é Cao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 caos não tem estátua nem figura e não pode ser imaginado; é um estado que só pode ser conhecido pelas coisas que nele existem e ele contém o Universo infinito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Frances A. Y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volução da teoria do Ca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Mitologia Greg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Contributo da Física e de outras ciênc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Henri Poincar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00"/>
                </a:solidFill>
                <a:latin typeface="JasmineUPC"/>
                <a:ea typeface="JasmineUPC"/>
              </a:rPr>
              <a:t>Edward Lorenz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ww.iucaa.ernet.in/~scipop/Literature/articles/Poincare_3.jpeg"/>
          <p:cNvPicPr/>
          <p:nvPr/>
        </p:nvPicPr>
        <p:blipFill>
          <a:blip r:embed="rId1"/>
          <a:stretch/>
        </p:blipFill>
        <p:spPr>
          <a:xfrm>
            <a:off x="5821200" y="2633760"/>
            <a:ext cx="2116440" cy="2792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dward Lorenz … enlightened by a change in calculations."/>
          <p:cNvPicPr/>
          <p:nvPr/>
        </p:nvPicPr>
        <p:blipFill>
          <a:blip r:embed="rId2"/>
          <a:stretch/>
        </p:blipFill>
        <p:spPr>
          <a:xfrm>
            <a:off x="3828960" y="4011480"/>
            <a:ext cx="1859040" cy="2773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t2.gstatic.com/images?q=tbn:BtJeLBkylp_WUM:http://estagiofqesag.no.sapo.pt/Links/Logotipo%2520FCUP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aixaDeTexto 2"/>
          <p:cNvSpPr/>
          <p:nvPr/>
        </p:nvSpPr>
        <p:spPr>
          <a:xfrm>
            <a:off x="838080" y="1828800"/>
            <a:ext cx="7696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Determinismo ≠ 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Obtenção de resultados ig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Sistema Comple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JasmineUPC"/>
                <a:ea typeface="JasmineUPC"/>
              </a:rPr>
              <a:t>Pseudo-Aleató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aixaDeTexto 7"/>
          <p:cNvSpPr/>
          <p:nvPr/>
        </p:nvSpPr>
        <p:spPr>
          <a:xfrm>
            <a:off x="685800" y="457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JasmineUPC"/>
                <a:ea typeface="JasmineUPC"/>
              </a:rPr>
              <a:t>Pêndu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58" name="Pendulo.avi" descr=""/>
          <p:cNvPicPr/>
          <p:nvPr/>
        </p:nvPicPr>
        <p:blipFill>
          <a:blip r:embed="rId3"/>
          <a:stretch/>
        </p:blipFill>
        <p:spPr>
          <a:xfrm>
            <a:off x="1168560" y="1447920"/>
            <a:ext cx="6603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:\Caos\fractal-borboleta.jpg"/>
          <p:cNvPicPr/>
          <p:nvPr/>
        </p:nvPicPr>
        <p:blipFill>
          <a:blip r:embed="rId1"/>
          <a:stretch/>
        </p:blipFill>
        <p:spPr>
          <a:xfrm>
            <a:off x="5575320" y="3886200"/>
            <a:ext cx="3111480" cy="2603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Efeito Borbolet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362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“</a:t>
            </a:r>
            <a:r>
              <a:rPr b="0" lang="pt-PT" sz="4000" spc="-1" strike="noStrike">
                <a:solidFill>
                  <a:srgbClr val="000000"/>
                </a:solidFill>
                <a:latin typeface="JasmineUPC"/>
                <a:ea typeface="JasmineUPC"/>
              </a:rPr>
              <a:t>O bater de asas de uma borboletas em Tóquio pode provocar um furacão em New York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O nosso trabalho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tmn\Desktop\jogo.png"/>
          <p:cNvPicPr/>
          <p:nvPr/>
        </p:nvPicPr>
        <p:blipFill>
          <a:blip r:embed="rId1"/>
          <a:stretch/>
        </p:blipFill>
        <p:spPr>
          <a:xfrm>
            <a:off x="2666880" y="1892160"/>
            <a:ext cx="3886200" cy="42800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2.gstatic.com/images?q=tbn:BtJeLBkylp_WUM:http://estagiofqesag.no.sapo.pt/Links/Logotipo%2520FCU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Z:\Caos\python00.jpg"/>
          <p:cNvPicPr/>
          <p:nvPr/>
        </p:nvPicPr>
        <p:blipFill>
          <a:blip r:embed="rId1"/>
          <a:stretch/>
        </p:blipFill>
        <p:spPr>
          <a:xfrm>
            <a:off x="4662360" y="228600"/>
            <a:ext cx="4481640" cy="6477120"/>
          </a:xfrm>
          <a:prstGeom prst="rect">
            <a:avLst/>
          </a:prstGeom>
          <a:ln w="0">
            <a:noFill/>
          </a:ln>
        </p:spPr>
      </p:pic>
      <p:sp>
        <p:nvSpPr>
          <p:cNvPr id="67" name="CaixaDeTexto 4"/>
          <p:cNvSpPr/>
          <p:nvPr/>
        </p:nvSpPr>
        <p:spPr>
          <a:xfrm>
            <a:off x="304920" y="85680"/>
            <a:ext cx="50292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c00000"/>
                </a:solidFill>
                <a:latin typeface="Arial"/>
                <a:ea typeface="Arial"/>
              </a:rPr>
              <a:t>#coding=ut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mpor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n=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=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teta=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a=teta*math.pi/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 arred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math.ceil(x-0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def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200" spc="-1" strike="noStrike">
                <a:solidFill>
                  <a:srgbClr val="0070c0"/>
                </a:solidFill>
                <a:latin typeface="Arial"/>
                <a:ea typeface="Arial"/>
              </a:rPr>
              <a:t>queda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x,a,i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y=x+math.tan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rego=arred(y+((i+1.)/2.)+.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=y+((i+2.)/2.)-pr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if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z&gt;-.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-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els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g=math.pi/2*z+math.pi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return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 y,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=[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while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(i&lt;=n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x,a=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i=i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j.append(n-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h.append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79646"/>
                </a:solidFill>
                <a:latin typeface="Arial"/>
                <a:ea typeface="Arial"/>
              </a:rPr>
              <a:t>print 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queda (x,a,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plot(h,j,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x=0.0 e teta=13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title(</a:t>
            </a:r>
            <a:r>
              <a:rPr b="0" lang="pt-PT" sz="1200" spc="-1" strike="noStrike">
                <a:solidFill>
                  <a:srgbClr val="00b050"/>
                </a:solidFill>
                <a:latin typeface="Arial"/>
                <a:ea typeface="Arial"/>
              </a:rPr>
              <a:t>"Trajectória de uma bola a cair"</a:t>
            </a: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axis([-n/2-1,n/2+1,-1,n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legen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  <a:ea typeface="Arial"/>
              </a:rPr>
              <a:t>pylab.sho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5400" spc="-1" strike="noStrike">
                <a:solidFill>
                  <a:srgbClr val="000000"/>
                </a:solidFill>
                <a:latin typeface="JasmineUPC"/>
                <a:ea typeface="JasmineUPC"/>
              </a:rPr>
              <a:t>Result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t2.gstatic.com/images?q=tbn:BtJeLBkylp_WUM:http://estagiofqesag.no.sapo.pt/Links/Logotipo%2520FCU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304920"/>
            <a:ext cx="1428840" cy="733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:\Caos\exemplo_4.png"/>
          <p:cNvPicPr/>
          <p:nvPr/>
        </p:nvPicPr>
        <p:blipFill>
          <a:blip r:embed="rId3"/>
          <a:stretch/>
        </p:blipFill>
        <p:spPr>
          <a:xfrm>
            <a:off x="0" y="1981080"/>
            <a:ext cx="39369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:\Caos\exemplo_5.png"/>
          <p:cNvPicPr/>
          <p:nvPr/>
        </p:nvPicPr>
        <p:blipFill>
          <a:blip r:embed="rId4"/>
          <a:stretch/>
        </p:blipFill>
        <p:spPr>
          <a:xfrm>
            <a:off x="4724280" y="2057400"/>
            <a:ext cx="39718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6:16:00Z</dcterms:created>
  <dc:creator>convidado010</dc:creator>
  <dc:description/>
  <dc:language>en-US</dc:language>
  <cp:lastModifiedBy>tmn</cp:lastModifiedBy>
  <dcterms:modified xsi:type="dcterms:W3CDTF">2009-09-05T07:59:57Z</dcterms:modified>
  <cp:revision>31</cp:revision>
  <dc:subject/>
  <dc:title>Da Ordem ao Caos</dc:title>
</cp:coreProperties>
</file>