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1321-CB36-40CF-AE4E-14817AF2F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B337-4A28-42A9-9A0F-ECA0A876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DFD3-1003-475E-BD4A-D84ECE47C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DF75-9EF6-420C-BE83-8C8B1D5FB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5D4D-8056-4E5F-A117-1FA5F375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8EF9-D5FC-4343-A4F2-A0EAAC86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5DAE-E81B-4DC5-B1AB-139B2AD9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CB83-994D-451C-9D66-1B2B44E0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8C72-91C2-47DD-98A3-ED0F1A58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50F6-2914-4250-A097-8E51F7C4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4B5C-8E2F-492E-BD3F-B4E5B710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69F7-D8E0-469A-BB31-FF5A54E1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EC65-1290-4381-8D7C-B56F48F77314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Users\tmn\Desktop\borboleta_luminiscente.jpg"/>
          <p:cNvPicPr/>
          <p:nvPr/>
        </p:nvPicPr>
        <p:blipFill>
          <a:blip r:embed="rId1"/>
          <a:stretch/>
        </p:blipFill>
        <p:spPr>
          <a:xfrm>
            <a:off x="533520" y="1600200"/>
            <a:ext cx="5715000" cy="4890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48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7200" spc="-1" strike="noStrike">
                <a:solidFill>
                  <a:srgbClr val="17375e"/>
                </a:solidFill>
                <a:latin typeface="JasmineUPC"/>
                <a:ea typeface="JasmineUPC"/>
              </a:rPr>
              <a:t>Da Ordem ao Cao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0" y="4267080"/>
            <a:ext cx="1905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7375e"/>
                </a:solidFill>
                <a:latin typeface="JasmineUPC"/>
                <a:ea typeface="JasmineUPC"/>
              </a:rPr>
              <a:t>Realizado po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7375e"/>
                </a:solidFill>
                <a:latin typeface="JasmineUPC"/>
                <a:ea typeface="JasmineUPC"/>
              </a:rPr>
              <a:t>Alexandru Mir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7375e"/>
                </a:solidFill>
                <a:latin typeface="JasmineUPC"/>
                <a:ea typeface="JasmineUPC"/>
              </a:rPr>
              <a:t>Gabriela Belsl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7375e"/>
                </a:solidFill>
                <a:latin typeface="JasmineUPC"/>
                <a:ea typeface="JasmineUPC"/>
              </a:rPr>
              <a:t>Hugo Perei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7375e"/>
                </a:solidFill>
                <a:latin typeface="JasmineUPC"/>
                <a:ea typeface="JasmineUPC"/>
              </a:rPr>
              <a:t>Meggie Ai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7375e"/>
                </a:solidFill>
                <a:latin typeface="JasmineUPC"/>
                <a:ea typeface="JasmineUPC"/>
              </a:rPr>
              <a:t>Sara Mar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6" descr="http://t2.gstatic.com/images?q=tbn:BtJeLBkylp_WUM:http://estagiofqesag.no.sapo.pt/Links/Logotipo%2520FCUP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Resultado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tmn\Desktop\graf.png"/>
          <p:cNvPicPr/>
          <p:nvPr/>
        </p:nvPicPr>
        <p:blipFill>
          <a:blip r:embed="rId1"/>
          <a:stretch/>
        </p:blipFill>
        <p:spPr>
          <a:xfrm>
            <a:off x="1438200" y="1504800"/>
            <a:ext cx="6267600" cy="4756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http://t2.gstatic.com/images?q=tbn:BtJeLBkylp_WUM:http://estagiofqesag.no.sapo.pt/Links/Logotipo%2520FCUP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Conclusã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JasmineUPC"/>
                <a:ea typeface="JasmineUPC"/>
              </a:rPr>
              <a:t>	</a:t>
            </a:r>
            <a:r>
              <a:rPr b="0" lang="pt-PT" sz="4400" spc="-1" strike="noStrike">
                <a:solidFill>
                  <a:srgbClr val="000000"/>
                </a:solidFill>
                <a:latin typeface="JasmineUPC"/>
                <a:ea typeface="JasmineUPC"/>
              </a:rPr>
              <a:t>"Caos é o nome de qualquer ordem que produz confusão nas nossas mentes."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400" spc="-1" strike="noStrike">
                <a:solidFill>
                  <a:srgbClr val="000000"/>
                </a:solidFill>
                <a:latin typeface="JasmineUPC"/>
                <a:ea typeface="JasmineUPC"/>
              </a:rPr>
              <a:t>George Santaya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http://t2.gstatic.com/images?q=tbn:BtJeLBkylp_WUM:http://estagiofqesag.no.sapo.pt/Links/Logotipo%2520FCUP.jpg"/>
          <p:cNvPicPr/>
          <p:nvPr/>
        </p:nvPicPr>
        <p:blipFill>
          <a:blip r:embed="rId1"/>
          <a:stretch/>
        </p:blipFill>
        <p:spPr>
          <a:xfrm>
            <a:off x="7467480" y="257040"/>
            <a:ext cx="142884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6000" spc="-1" strike="noStrike">
                <a:solidFill>
                  <a:srgbClr val="000000"/>
                </a:solidFill>
                <a:latin typeface="JasmineUPC"/>
                <a:ea typeface="JasmineUPC"/>
              </a:rPr>
              <a:t>Agradecimento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286000" y="2362320"/>
            <a:ext cx="4038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FCU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Paulo Morga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Monitor Tiago Dini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http://t2.gstatic.com/images?q=tbn:BtJeLBkylp_WUM:http://estagiofqesag.no.sapo.pt/Links/Logotipo%2520FCUP.jpg"/>
          <p:cNvPicPr/>
          <p:nvPr/>
        </p:nvPicPr>
        <p:blipFill>
          <a:blip r:embed="rId1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http://school.discovery.com/clipart/images/thanks.gif"/>
          <p:cNvPicPr/>
          <p:nvPr/>
        </p:nvPicPr>
        <p:blipFill>
          <a:blip r:embed="rId2"/>
          <a:stretch/>
        </p:blipFill>
        <p:spPr>
          <a:xfrm>
            <a:off x="5479920" y="4290840"/>
            <a:ext cx="3670560" cy="25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tmn\Desktop\Ponto%20cego[1].jpg"/>
          <p:cNvPicPr/>
          <p:nvPr/>
        </p:nvPicPr>
        <p:blipFill>
          <a:blip r:embed="rId1"/>
          <a:stretch/>
        </p:blipFill>
        <p:spPr>
          <a:xfrm>
            <a:off x="1727280" y="129528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CaixaDeTexto 3"/>
          <p:cNvSpPr/>
          <p:nvPr/>
        </p:nvSpPr>
        <p:spPr>
          <a:xfrm>
            <a:off x="1523880" y="243828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600" spc="-1" strike="noStrike">
                <a:solidFill>
                  <a:srgbClr val="ffffff"/>
                </a:solidFill>
                <a:latin typeface="JasmineUPC"/>
                <a:ea typeface="JasmineUPC"/>
              </a:rPr>
              <a:t>Fim…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pt-PT" sz="7200" spc="-1" strike="noStrike">
                <a:solidFill>
                  <a:srgbClr val="000000"/>
                </a:solidFill>
                <a:latin typeface="JasmineUPC"/>
                <a:ea typeface="JasmineUPC"/>
              </a:rPr>
              <a:t>O que é Caos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“</a:t>
            </a:r>
            <a:r>
              <a:rPr b="0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O caos não tem estátua nem figura e não pode ser imaginado; é um estado que só pode ser conhecido pelas coisas que nele existem e ele contém o Universo infinito!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Frances A. Y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http://t2.gstatic.com/images?q=tbn:BtJeLBkylp_WUM:http://estagiofqesag.no.sapo.pt/Links/Logotipo%2520FCU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Evolução da teoria do Cao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Mitologia Greg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Contributo da Física e de outras ciênc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Henri Poincar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Edward Lorenz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http://www.iucaa.ernet.in/~scipop/Literature/articles/Poincare_3.jpeg"/>
          <p:cNvPicPr/>
          <p:nvPr/>
        </p:nvPicPr>
        <p:blipFill>
          <a:blip r:embed="rId1"/>
          <a:stretch/>
        </p:blipFill>
        <p:spPr>
          <a:xfrm>
            <a:off x="5821200" y="2633760"/>
            <a:ext cx="2116440" cy="2792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Edward Lorenz … enlightened by a change in calculations."/>
          <p:cNvPicPr/>
          <p:nvPr/>
        </p:nvPicPr>
        <p:blipFill>
          <a:blip r:embed="rId2"/>
          <a:stretch/>
        </p:blipFill>
        <p:spPr>
          <a:xfrm>
            <a:off x="3828960" y="4011480"/>
            <a:ext cx="1859040" cy="2773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t2.gstatic.com/images?q=tbn:BtJeLBkylp_WUM:http://estagiofqesag.no.sapo.pt/Links/Logotipo%2520FCUP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Determinism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aixaDeTexto 2"/>
          <p:cNvSpPr/>
          <p:nvPr/>
        </p:nvSpPr>
        <p:spPr>
          <a:xfrm>
            <a:off x="838080" y="1828800"/>
            <a:ext cx="7696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Determinismo ≠ Aleató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Obtenção de resultados igu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Sistema Complex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Pseudo-Aleató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http://t2.gstatic.com/images?q=tbn:BtJeLBkylp_WUM:http://estagiofqesag.no.sapo.pt/Links/Logotipo%2520FCU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aixaDeTexto 7"/>
          <p:cNvSpPr/>
          <p:nvPr/>
        </p:nvSpPr>
        <p:spPr>
          <a:xfrm>
            <a:off x="685800" y="45720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JasmineUPC"/>
                <a:ea typeface="JasmineUPC"/>
              </a:rPr>
              <a:t>Pêndu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http://t2.gstatic.com/images?q=tbn:BtJeLBkylp_WUM:http://estagiofqesag.no.sapo.pt/Links/Logotipo%2520FCU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  <p:pic>
        <p:nvPicPr>
          <p:cNvPr id="58" name="Pendulo.avi" descr=""/>
          <p:cNvPicPr/>
          <p:nvPr/>
        </p:nvPicPr>
        <p:blipFill>
          <a:blip r:embed="rId3"/>
          <a:stretch/>
        </p:blipFill>
        <p:spPr>
          <a:xfrm>
            <a:off x="1168560" y="1447920"/>
            <a:ext cx="6603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0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H:\Caos\fractal-borboleta.jpg"/>
          <p:cNvPicPr/>
          <p:nvPr/>
        </p:nvPicPr>
        <p:blipFill>
          <a:blip r:embed="rId1"/>
          <a:stretch/>
        </p:blipFill>
        <p:spPr>
          <a:xfrm>
            <a:off x="5575320" y="3886200"/>
            <a:ext cx="3111480" cy="26035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Efeito Borbolet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3623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4000" spc="-1" strike="noStrike">
                <a:solidFill>
                  <a:srgbClr val="000000"/>
                </a:solidFill>
                <a:latin typeface="JasmineUPC"/>
                <a:ea typeface="JasmineUPC"/>
              </a:rPr>
              <a:t>“</a:t>
            </a:r>
            <a:r>
              <a:rPr b="0" lang="pt-PT" sz="4000" spc="-1" strike="noStrike">
                <a:solidFill>
                  <a:srgbClr val="000000"/>
                </a:solidFill>
                <a:latin typeface="JasmineUPC"/>
                <a:ea typeface="JasmineUPC"/>
              </a:rPr>
              <a:t>O bater de asas de uma borboletas em Tóquio pode provocar um furacão em New York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http://t2.gstatic.com/images?q=tbn:BtJeLBkylp_WUM:http://estagiofqesag.no.sapo.pt/Links/Logotipo%2520FCUP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O nosso trabalho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tmn\Desktop\jogo.png"/>
          <p:cNvPicPr/>
          <p:nvPr/>
        </p:nvPicPr>
        <p:blipFill>
          <a:blip r:embed="rId1"/>
          <a:stretch/>
        </p:blipFill>
        <p:spPr>
          <a:xfrm>
            <a:off x="2666880" y="1892160"/>
            <a:ext cx="3886200" cy="4280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ttp://t2.gstatic.com/images?q=tbn:BtJeLBkylp_WUM:http://estagiofqesag.no.sapo.pt/Links/Logotipo%2520FCUP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Z:\Caos\python00.jpg"/>
          <p:cNvPicPr/>
          <p:nvPr/>
        </p:nvPicPr>
        <p:blipFill>
          <a:blip r:embed="rId1"/>
          <a:stretch/>
        </p:blipFill>
        <p:spPr>
          <a:xfrm>
            <a:off x="4662360" y="228600"/>
            <a:ext cx="4481640" cy="6477120"/>
          </a:xfrm>
          <a:prstGeom prst="rect">
            <a:avLst/>
          </a:prstGeom>
          <a:ln w="0">
            <a:noFill/>
          </a:ln>
        </p:spPr>
      </p:pic>
      <p:sp>
        <p:nvSpPr>
          <p:cNvPr id="67" name="CaixaDeTexto 4"/>
          <p:cNvSpPr/>
          <p:nvPr/>
        </p:nvSpPr>
        <p:spPr>
          <a:xfrm>
            <a:off x="304920" y="85680"/>
            <a:ext cx="502920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c00000"/>
                </a:solidFill>
                <a:latin typeface="Arial"/>
                <a:ea typeface="Arial"/>
              </a:rPr>
              <a:t>#coding=ut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import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 m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import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y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n=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x=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teta=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a=teta*math.pi/18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i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def</a:t>
            </a:r>
            <a:r>
              <a:rPr b="0" lang="pt-PT" sz="1200" spc="-1" strike="noStrike">
                <a:solidFill>
                  <a:srgbClr val="0070c0"/>
                </a:solidFill>
                <a:latin typeface="Arial"/>
                <a:ea typeface="Arial"/>
              </a:rPr>
              <a:t> arred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(x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return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 math.ceil(x-0.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def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PT" sz="1200" spc="-1" strike="noStrike">
                <a:solidFill>
                  <a:srgbClr val="0070c0"/>
                </a:solidFill>
                <a:latin typeface="Arial"/>
                <a:ea typeface="Arial"/>
              </a:rPr>
              <a:t>queda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(x,a,i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y=x+math.tan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rego=arred(y+((i+1.)/2.)+.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z=y+((i+2.)/2.)-pr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if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z&gt;.2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g=math.pi/2*z-math.pi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elif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z&gt;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g=math.pi/2*z+math.pi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elif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z&gt;-.2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g=math.pi/2*z-math.pi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else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g=math.pi/2*z+math.pi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return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 y,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j=[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h=[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while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(i&lt;=n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x,a=queda (x,a,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i=i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j.append(n-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h.append(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print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queda (x,a,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ylab.plot(h,j,</a:t>
            </a:r>
            <a:r>
              <a:rPr b="0" lang="pt-PT" sz="1200" spc="-1" strike="noStrike">
                <a:solidFill>
                  <a:srgbClr val="00b050"/>
                </a:solidFill>
                <a:latin typeface="Arial"/>
                <a:ea typeface="Arial"/>
              </a:rPr>
              <a:t>"x=0.0 e teta=13"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ylab.title(</a:t>
            </a:r>
            <a:r>
              <a:rPr b="0" lang="pt-PT" sz="1200" spc="-1" strike="noStrike">
                <a:solidFill>
                  <a:srgbClr val="00b050"/>
                </a:solidFill>
                <a:latin typeface="Arial"/>
                <a:ea typeface="Arial"/>
              </a:rPr>
              <a:t>"Trajectória de uma bola a cair"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ylab.axis([-n/2-1,n/2+1,-1,n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ylab.legen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ylab.sho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Resultado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http://t2.gstatic.com/images?q=tbn:BtJeLBkylp_WUM:http://estagiofqesag.no.sapo.pt/Links/Logotipo%2520FCU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H:\Caos\exemplo_4.png"/>
          <p:cNvPicPr/>
          <p:nvPr/>
        </p:nvPicPr>
        <p:blipFill>
          <a:blip r:embed="rId3"/>
          <a:stretch/>
        </p:blipFill>
        <p:spPr>
          <a:xfrm>
            <a:off x="0" y="1981080"/>
            <a:ext cx="3936960" cy="2952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:\Caos\exemplo_5.png"/>
          <p:cNvPicPr/>
          <p:nvPr/>
        </p:nvPicPr>
        <p:blipFill>
          <a:blip r:embed="rId4"/>
          <a:stretch/>
        </p:blipFill>
        <p:spPr>
          <a:xfrm>
            <a:off x="4724280" y="2057400"/>
            <a:ext cx="397188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6:16:00Z</dcterms:created>
  <dc:creator>convidado010</dc:creator>
  <dc:description/>
  <dc:language>en-US</dc:language>
  <cp:lastModifiedBy>tmn</cp:lastModifiedBy>
  <dcterms:modified xsi:type="dcterms:W3CDTF">2009-09-05T07:59:57Z</dcterms:modified>
  <cp:revision>31</cp:revision>
  <dc:subject/>
  <dc:title>Da Ordem ao Caos</dc:title>
</cp:coreProperties>
</file>